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675-A640-419B-8702-B76DD096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0A5-5932-4C73-8E62-C31CA700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412-448D-4D98-BD35-15B31D49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11C-4864-4F2C-AB17-5D01A720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9BD-E6B1-4F84-93BD-39E90A6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558-F74F-4063-AF7D-48E03ECA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D49-5D0A-459B-A3CD-54082AA0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E7F-4F2B-40BA-ACE8-BA2A1CAA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A9AE-0944-49A9-81D3-1E3A9F4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9E3-BACF-402C-BAED-DE34C17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CBD-CC70-4128-9CC9-C137DFC4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A33B-B951-4B25-97CC-0BC17A57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7AD-61AC-4ECB-8C62-BF43B80C154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29:44Z</dcterms:created>
  <dc:creator> </dc:creator>
  <dc:description/>
  <dc:language>en-US</dc:language>
  <cp:lastModifiedBy> </cp:lastModifiedBy>
  <dcterms:modified xsi:type="dcterms:W3CDTF">2004-06-16T01:30:10Z</dcterms:modified>
  <cp:revision>1</cp:revision>
  <dc:subject/>
  <dc:title>甦醒 (1/3)  [Awakening]</dc:title>
</cp:coreProperties>
</file>