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05D-15F3-44B2-95E7-5C9564AA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50E-A7D4-4ECE-ABF1-56AE2DC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A55-4FE0-481B-B539-0CBA6DF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EF6-8389-4A26-82F0-162EA9D6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6F0-2184-4770-B44E-F0FCF008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C1B-9639-482C-9BFA-7262609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720-4674-4DC7-8659-DDC20ED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16E-8711-4448-AC22-F876ADEB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B2F-F731-4215-9592-D0950C0D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AF2-4261-4DF8-B4A9-F7C1C1D4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691-0A97-4AB6-868C-18C3B0F9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263-9589-47BD-B92B-3FA17E9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8184-1E6E-47B9-B5E2-F0D49CE6729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序曲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1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rship Pre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32Z</dcterms:created>
  <dc:creator> </dc:creator>
  <dc:description/>
  <dc:language>en-US</dc:language>
  <cp:lastModifiedBy> </cp:lastModifiedBy>
  <dcterms:modified xsi:type="dcterms:W3CDTF">2004-06-17T00:59:38Z</dcterms:modified>
  <cp:revision>1</cp:revision>
  <dc:subject/>
  <dc:title>序曲 &lt;1/1&gt; Worship Prelude</dc:title>
</cp:coreProperties>
</file>