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AC4-D385-4FE9-89F6-6F1B944F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BD8-BD2C-481D-A33B-DE5AE97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E3D-7F94-4F5F-A32E-9AE819B2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BDC-E716-4284-96DE-1CD3F2F5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00B-7B6A-4669-9D17-963B2BE2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042-7973-4F89-A25F-380E56F2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60B-5E43-4015-A3A7-7D51C08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E76-CCD9-49CE-96E0-7BC4023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E5C-7C21-4B7C-8E5F-CAB05A4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43E-34D4-4726-A16B-D1F6017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AA6-9D3F-4AC0-BAB3-FA83323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AC9-8A07-47A9-B62A-E7857DA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CBC8-E847-4A28-A17D-6C0E2A08C98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尋找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Search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48:26Z</dcterms:created>
  <dc:creator> </dc:creator>
  <dc:description/>
  <dc:language>en-US</dc:language>
  <cp:lastModifiedBy> </cp:lastModifiedBy>
  <dcterms:modified xsi:type="dcterms:W3CDTF">2004-06-16T20:48:53Z</dcterms:modified>
  <cp:revision>1</cp:revision>
  <dc:subject/>
  <dc:title>尋找 (1/3) [Searching]</dc:title>
</cp:coreProperties>
</file>