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ED3-BE90-4D58-9F96-337666A0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B7D2-3DFC-41A6-8987-6FCC5247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D39-3A88-49D9-938F-DC8A89A2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427-E072-456B-B125-3C72FD20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E936-6476-4AAC-8F17-8D2E038A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B4BF-3359-4EF0-A2A2-91B33836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4BFC-00C2-4705-881B-E2D71F65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D6F7-2FE5-460D-AC4D-7BB92BA3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A11-9FBE-4CB7-806A-150F436D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455-47D0-4AE2-9CC7-EFFE3006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531-333F-4F0E-A5F6-B3893AF5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848-9614-4918-8B59-F8ABB34E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9DCC-1902-4468-8D0B-355E896D006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起來吧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rise!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起來吧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rise!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起來吧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rise!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30:25Z</dcterms:created>
  <dc:creator> </dc:creator>
  <dc:description/>
  <dc:language>en-US</dc:language>
  <cp:lastModifiedBy> </cp:lastModifiedBy>
  <dcterms:modified xsi:type="dcterms:W3CDTF">2004-06-16T01:31:14Z</dcterms:modified>
  <cp:revision>1</cp:revision>
  <dc:subject/>
  <dc:title>起來吧 (1/3)  [Arise!]</dc:title>
</cp:coreProperties>
</file>