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A16-F70B-4887-8E42-9479341D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D32-78E0-4B73-BCE5-08D5D008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957-EFE8-4211-B2E0-465D1543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61D-47C2-4BDF-89C4-FBBE314E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73D-DA5D-4978-9FB1-5CFA08B5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FFB-D2B4-4C75-8951-43A5DFDD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B4C-9189-4A97-BAB6-45104A21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55E-576B-489E-8846-AB8CFF8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8CE-4E23-4932-853C-8313969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403-9500-4025-98F3-87E9A0F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8C4-FE77-4D19-ADF4-D011713D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368-E6B0-46CA-80A1-F7D17B1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CA3-5512-47D5-BB3B-16B7FDF7BBC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是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It’s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是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It’s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49:04Z</dcterms:created>
  <dc:creator> </dc:creator>
  <dc:description/>
  <dc:language>en-US</dc:language>
  <cp:lastModifiedBy> </cp:lastModifiedBy>
  <dcterms:modified xsi:type="dcterms:W3CDTF">2004-06-16T20:49:10Z</dcterms:modified>
  <cp:revision>1</cp:revision>
  <dc:subject/>
  <dc:title>是耶穌 (1/2) [It’s Jesus]</dc:title>
</cp:coreProperties>
</file>