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AE5-1B8B-447A-A939-4B83370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E73-DA3E-4541-B106-49E0278E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768-2C6F-4408-A096-C79964FC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4EF-6918-4BEE-9361-3CE6804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1D0-B1CE-4007-A7DC-1C531575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6E1-38C9-4799-ABE8-C4B34BD7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FC8-D2FA-4620-91BF-FF3533F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89D-24BB-41C5-9F8B-7D7BA87E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D11-48B4-4908-A04D-5B9C821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1AE-05FA-405F-A7FF-3386DB4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56E-9C68-49A7-A00D-A0C3B99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C0E-3F89-4491-86B0-0038810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E32-A709-44D4-9E0F-E25A3B2C138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陪我走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Walk With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50:07Z</dcterms:created>
  <dc:creator> </dc:creator>
  <dc:description/>
  <dc:language>en-US</dc:language>
  <cp:lastModifiedBy> </cp:lastModifiedBy>
  <dcterms:modified xsi:type="dcterms:W3CDTF">2004-06-16T21:50:13Z</dcterms:modified>
  <cp:revision>1</cp:revision>
  <dc:subject/>
  <dc:title>陪我走 &lt;1/3&gt; Walk With Me</dc:title>
</cp:coreProperties>
</file>