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8BB3E-A647-4B39-A6EE-E444D950D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AF575-3022-4C54-B2D8-D5688C290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C9C20-B8C9-418D-97BC-3DEF556FC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2E436-DCEE-4385-A5BB-170E6B565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C47CB-16B7-4651-8F2B-6A275B102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452F4-605C-4399-8CD2-17F062EAE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D24C0-1E9A-4C70-9542-04FD25A09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57E1D-B132-4B11-9878-3962B612C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5DDE7-4A26-4E97-82BC-17EB91A44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93EDC-B1F1-4C89-AEFE-051E29B88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6C1B6-6F3C-4E1E-A2E6-A84A78491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2B19A-EF11-4EA2-A892-BD4F4CAA7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E895C-AC4C-42B0-9961-19B096E2532D}" type="slidenum">
              <a:rPr b="0" lang="zh-TW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慈愛天父〈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1/2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〉</a:t>
            </a:r>
            <a:br>
              <a:rPr sz="4400"/>
            </a:b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God of Merc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慈愛天父〈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2/2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〉           </a:t>
            </a:r>
            <a:r>
              <a:rPr b="0" lang="zh-TW" sz="4400" spc="-1" strike="noStrike">
                <a:solidFill>
                  <a:srgbClr val="000000"/>
                </a:solidFill>
                <a:latin typeface="Gill Sans"/>
              </a:rPr>
              <a:t>God of Merc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8T23:14:45Z</dcterms:created>
  <dc:creator> </dc:creator>
  <dc:description/>
  <dc:language>en-US</dc:language>
  <cp:lastModifiedBy> </cp:lastModifiedBy>
  <dcterms:modified xsi:type="dcterms:W3CDTF">2004-06-08T23:14:56Z</dcterms:modified>
  <cp:revision>1</cp:revision>
  <dc:subject/>
  <dc:title>慈愛天父〈1/2 〉 God of Mercy</dc:title>
</cp:coreProperties>
</file>