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3F3-3426-4D98-A577-F5954B39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C7D-FF1D-48C3-BB66-F3746BF1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1AB-368F-4B35-8DDC-58B87371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0CF-73DC-410D-87EE-42A7B6C4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C8-C657-4403-A212-EA2B6120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F61-C5A6-4103-A54C-B660D7B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F00-1D86-4618-9FEC-D9994A0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D5A-ACA9-4F12-95EF-71A42E9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468-DF01-4A45-9B28-2F40F0B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59E-1C97-445C-B7A5-0628508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DA3-165F-4B75-91DC-A1E6940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9A4-FF40-4AFB-83AD-F7CC736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78C-E7BC-476D-B0F5-55ABB2DA1D3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57Z</dcterms:created>
  <dc:creator> </dc:creator>
  <dc:description/>
  <dc:language>en-US</dc:language>
  <cp:lastModifiedBy> </cp:lastModifiedBy>
  <dcterms:modified xsi:type="dcterms:W3CDTF">2004-06-17T01:00:22Z</dcterms:modified>
  <cp:revision>1</cp:revision>
  <dc:subject/>
  <dc:title>耶穌愛你 &lt;1/2&gt; Jesus Loves You</dc:title>
</cp:coreProperties>
</file>