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6438-CC7C-46B7-97B0-4424DC98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30D3-6D1F-4FFE-B910-79BF9D48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9233-5B86-4845-BA6B-FFFED06A0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8D5F-5F32-4C10-9F26-0F44367C9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AA68-350B-49D8-9F8B-FB8EED54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767F-9532-48C4-970B-6C1FB1CE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8F52-511A-4C0A-8056-E1904030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1204-2C74-4C95-851C-69934AC6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EBE7-3F30-46CC-A028-7B2279F3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83F5-1640-446F-8829-92FBA44A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B50B-BA55-46AD-A442-56F1DDCE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EC3A-20B0-479E-8F7A-D1D506AA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D250-3F19-4159-9F78-1BE29B1FD356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5T23:36:59Z</dcterms:created>
  <dc:creator> </dc:creator>
  <dc:description/>
  <dc:language>en-US</dc:language>
  <cp:lastModifiedBy> </cp:lastModifiedBy>
  <dcterms:modified xsi:type="dcterms:W3CDTF">2004-06-15T23:37:23Z</dcterms:modified>
  <cp:revision>1</cp:revision>
  <dc:subject/>
  <dc:title>Slide 1</dc:title>
</cp:coreProperties>
</file>