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7F0-BFB8-4643-AC3C-FAB45A9C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662-5341-466C-9150-20BE6504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FA5-8456-4069-890E-B9EF4818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30E-1EEF-4718-96F9-F8F94871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7B0-9354-4873-BE95-1C16EA88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236D-E94B-4564-BCAE-4B150CC2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402-4D07-4F6F-A61B-51C6AC86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2C8-7037-42FF-AA81-64BF1656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C92-EA1E-462D-87C1-CFE4D893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F98-6C1D-4125-B8E4-D8F47750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6C5C-B2FB-45D0-A782-EDF81DBD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15B-B3D2-4549-B776-EAE683F2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B5E0-445D-4800-B7CB-D0ED51F2F37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新的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 New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新的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 New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新的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3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A New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59:45Z</dcterms:created>
  <dc:creator> </dc:creator>
  <dc:description/>
  <dc:language>en-US</dc:language>
  <cp:lastModifiedBy> </cp:lastModifiedBy>
  <dcterms:modified xsi:type="dcterms:W3CDTF">2004-06-17T00:59:50Z</dcterms:modified>
  <cp:revision>1</cp:revision>
  <dc:subject/>
  <dc:title>全新的你 &lt;1/3&gt; A New You</dc:title>
</cp:coreProperties>
</file>