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B53-914B-4350-9E03-6A4C0EDD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3EF-2162-4A0B-BA15-9B1A5C18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630-9E9B-4B48-835C-B6B9FF9B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CFC-7C3A-4B07-8076-5C076A65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0F6-CD34-483D-82CB-EA8516E7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B4B-AC85-426C-A94B-7372599E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76E-ACFF-4784-92C5-254E3E29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092-7FCA-48F0-B5CF-D8B2896C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F3D-DA0C-44A8-B928-9BADF7C9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B59-2DF3-4E67-9110-730327B6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F9B-49AB-4526-8E69-8094D424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614-CC55-4BAF-A655-01332E13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8137-F888-4701-927C-1075670DF64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奇妙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1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mazing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奇妙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2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mazing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奇妙的愛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3/3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mazing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48:22Z</dcterms:created>
  <dc:creator> </dc:creator>
  <dc:description/>
  <dc:language>en-US</dc:language>
  <cp:lastModifiedBy> </cp:lastModifiedBy>
  <dcterms:modified xsi:type="dcterms:W3CDTF">2004-06-16T21:48:32Z</dcterms:modified>
  <cp:revision>1</cp:revision>
  <dc:subject/>
  <dc:title>奇妙的愛 &lt;1/3&gt; Amazing Love</dc:title>
</cp:coreProperties>
</file>