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BD6-C734-441D-9605-B17FCF2A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CCF-D30A-48F8-BFC9-45E4844C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8A8-FA62-4926-AD72-40CDC6ED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DC3-CAA5-44FC-8F2E-A84E8C19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067-FDB7-478A-A2F9-5C596C3F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7EB-4125-47E2-AAB4-9D07CB6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7EB-FBE3-4A50-8901-C800A7B2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4EF-5DBC-49D3-A005-127591DC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E5B-F90A-4009-96AE-009785A1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83E-E487-4775-914F-5A37AFAD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147-A2C5-4424-B804-1C3CADE4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ED4-5450-4E48-BABD-06D7A13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0B13-4557-4113-B5CF-571F18065A7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興起發光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 and Shin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興起發光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 and Shin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興起發光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 and Shin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1:29Z</dcterms:created>
  <dc:creator> </dc:creator>
  <dc:description/>
  <dc:language>en-US</dc:language>
  <cp:lastModifiedBy> </cp:lastModifiedBy>
  <dcterms:modified xsi:type="dcterms:W3CDTF">2004-06-16T01:31:41Z</dcterms:modified>
  <cp:revision>1</cp:revision>
  <dc:subject/>
  <dc:title>興起發光 (1/3)  [Arise and Shine]</dc:title>
</cp:coreProperties>
</file>