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2CBC-3A2B-4295-B62F-0B5453BC4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3C97-ECDB-4E24-A85E-F6C70E374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C374-B417-48A8-93BB-28D82F5D5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5012-B067-425A-A14E-3DC98781B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60C5-5D7C-4352-8D7D-2C98C51E5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0254-5E59-45EC-B141-04AA0238F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6425-38F4-4D41-A02D-A9105E43A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B770-791F-4CE5-9723-215A00226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3CBA-839E-475F-B28F-0347517C0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B660-D7E9-4288-AD09-1E88852C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DC24-EB2B-47B5-8D95-B97F35C7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3D4F-4F2A-4C75-ACA4-00414F97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6240E-1574-4761-A4D7-D18CF007885F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秋雨之福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&lt;1/4&gt;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Autumn Bless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74200" y="6248520"/>
            <a:ext cx="89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全真粗黑體"/>
                <a:ea typeface="全真粗黑體"/>
              </a:rPr>
              <a:t>讓愛走動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秋雨之福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&lt;2/4&gt;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Autumn Bless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4200" y="6248520"/>
            <a:ext cx="89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全真粗黑體"/>
                <a:ea typeface="全真粗黑體"/>
              </a:rPr>
              <a:t>讓愛走動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秋雨之福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&lt;3/4&gt;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Autumn Bless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4200" y="6248520"/>
            <a:ext cx="89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全真粗黑體"/>
                <a:ea typeface="全真粗黑體"/>
              </a:rPr>
              <a:t>讓愛走動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秋雨之福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&lt;4/4&gt;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Autumn Bless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4200" y="6248520"/>
            <a:ext cx="89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全真粗黑體"/>
                <a:ea typeface="全真粗黑體"/>
              </a:rPr>
              <a:t>讓愛走動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21:49:37Z</dcterms:created>
  <dc:creator> </dc:creator>
  <dc:description/>
  <dc:language>en-US</dc:language>
  <cp:lastModifiedBy> </cp:lastModifiedBy>
  <dcterms:modified xsi:type="dcterms:W3CDTF">2004-06-16T21:49:50Z</dcterms:modified>
  <cp:revision>1</cp:revision>
  <dc:subject/>
  <dc:title>秋雨之福 &lt;1/4&gt; Autumn Blessings</dc:title>
</cp:coreProperties>
</file>