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F6B-6BDC-4F7F-8E49-5A71AA2D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0A9-A677-4262-96F3-EF93C00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E76-79B9-4B69-B9A7-B3B79F50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D51-4BE7-4B1E-9D3F-E2D6ACD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772-B50D-484B-80C3-C5E37310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66C-64F4-452C-A1D1-953809D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40F-E5DB-43AA-B4C3-6D8F3DF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E1F-7526-4F95-A84A-3897A6E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E9A-63E3-40EF-96B5-17F47C8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468-7631-44EA-8A74-6C43F472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826-0071-4B23-89D6-76CCF2E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ECD-430B-48D3-9BB9-082386D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6F8-9C14-4807-8BB2-5CFC71D4605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33Z</dcterms:created>
  <dc:creator> </dc:creator>
  <dc:description/>
  <dc:language>en-US</dc:language>
  <cp:lastModifiedBy> </cp:lastModifiedBy>
  <dcterms:modified xsi:type="dcterms:W3CDTF">2004-06-15T23:38:37Z</dcterms:modified>
  <cp:revision>1</cp:revision>
  <dc:subject/>
  <dc:title>Slide 1</dc:title>
</cp:coreProperties>
</file>