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F64-090A-4F25-8A0C-E11BA21F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78D-2F21-4E6D-A30C-90E99CC5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FB1-8CE8-4C65-8379-837CF0BC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EB9-F1BC-4B92-95D8-EFE217C9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E86-5026-4FF2-926B-DAA1DFC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9D2-5610-4AB8-81FB-DBFB826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05D-6BF3-4C13-B3AF-D3E99CDA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99B-962C-4546-964C-E14B6D4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4B4-C2C2-4A91-84B6-70F79707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A4B-242D-47C2-89D2-CEA84D8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773-6D9D-4A4F-BBC8-2F4AB85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5B7-234E-4276-BCDE-14FEA36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A6D-3E09-4921-B702-3FA740FBD6C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38Z</dcterms:created>
  <dc:creator> </dc:creator>
  <dc:description/>
  <dc:language>en-US</dc:language>
  <cp:lastModifiedBy> </cp:lastModifiedBy>
  <dcterms:modified xsi:type="dcterms:W3CDTF">2004-06-16T20:50:49Z</dcterms:modified>
  <cp:revision>1</cp:revision>
  <dc:subject/>
  <dc:title>賜我自由 (1/2) [Grant Me Freedom]</dc:title>
</cp:coreProperties>
</file>