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39E-B65E-42D2-A114-953C3338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969-4F88-4E00-8B59-B54505EE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9C6-39AD-474A-B010-FB2C0176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036-0679-44FF-BD87-B71DFDFC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E4D-E42E-431F-97D9-929080A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D4D-DE18-4354-8507-598D573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2F1-CE46-4199-89B9-36C4160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CD1-0EC6-4514-AB6A-4515787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03A-EBA2-4DF2-8535-08B3A0A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B85-942B-4F8B-ABE4-542BF04B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161-0E11-41A4-8D34-8BD9FDC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5AA-3E2F-4A70-9003-79BD7EB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7F0-4FBC-49F9-988E-0B4FA981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9:22:45Z</dcterms:created>
  <dc:creator>Registered user</dc:creator>
  <dc:description/>
  <dc:language>en-US</dc:language>
  <cp:lastModifiedBy>Registered user</cp:lastModifiedBy>
  <dcterms:modified xsi:type="dcterms:W3CDTF">2004-07-09T19:22:50Z</dcterms:modified>
  <cp:revision>1</cp:revision>
  <dc:subject/>
  <dc:title>在主愛中 &lt;1/4&gt; In God’s Love</dc:title>
</cp:coreProperties>
</file>