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987F-4295-4449-938A-A07D7D1B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E007-89D3-43AE-ABEF-C03665CC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53A-6C52-4481-990D-A0AE31D3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6BB-F4AB-4FE4-8568-C0537EA4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80BE-518E-4DC4-8768-E4CAD7FE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6AA6-086D-4BCB-AA87-4BE93146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49E-4191-4842-95FB-CEFE9782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28E9-0C6B-4BDE-9917-C26D1D2B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9D6B-0F0D-4664-A95E-D6CB7CC0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846-D6BB-45B4-B710-D27F809B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466-0258-4451-B1E2-E57055FC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2FF4-F1BC-435F-8FE0-77E62A6B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F7D1-C10A-4025-B026-CDA772B2F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01:51:20Z</dcterms:created>
  <dc:creator>SOP</dc:creator>
  <dc:description/>
  <dc:language>en-US</dc:language>
  <cp:lastModifiedBy>SOP</cp:lastModifiedBy>
  <dcterms:modified xsi:type="dcterms:W3CDTF">2004-02-10T01:51:29Z</dcterms:modified>
  <cp:revision>1</cp:revision>
  <dc:subject/>
  <dc:title>Slide 1</dc:title>
</cp:coreProperties>
</file>