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65E-AA32-47BE-ACDE-B000CC91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EDA-6F66-4085-873F-F85C6CD0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1E9-E873-4346-919B-8B7CE28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BEA-448C-4EED-B7CC-53CE3A30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65D-18DA-45E7-84D4-94748A54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8DE-01D4-4BCD-9EE3-A230FD22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BEB-89B3-4E82-AE36-498048B9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814-FF3C-4629-81EE-0419C565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30D-C580-47FA-B582-EC20CB6A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820-FD20-44D8-9AA4-FD59A3C1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211-E19C-42B2-94A5-A576C8A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F78-4DD6-4928-8C5A-8E507D71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2356-2F3F-4974-9F85-D8DA0551947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豐盛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3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Into His Abun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15:27Z</dcterms:created>
  <dc:creator> </dc:creator>
  <dc:description/>
  <dc:language>en-US</dc:language>
  <cp:lastModifiedBy> </cp:lastModifiedBy>
  <dcterms:modified xsi:type="dcterms:W3CDTF">2004-06-08T23:15:41Z</dcterms:modified>
  <cp:revision>1</cp:revision>
  <dc:subject/>
  <dc:title>進入豐盛〈1/3 〉 Into His Abundance </dc:title>
</cp:coreProperties>
</file>