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CB6-3859-432B-A2C1-CCC90A67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FC2-A90B-45C9-AB05-75F6FD69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1D5-5683-4260-B4DA-4BB33C88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C51-9E4E-4D8B-AEE8-2BD21695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80E-0A22-4B65-B500-76608E1E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B30-963E-471C-A8FD-9ED4ACC6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FE9-AF5F-4BA3-9CF2-B00CB005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0B1-E2C4-414E-9E05-280A5220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6CE-4123-45E5-B641-FB0B633F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47F-595E-4BA9-9C2C-6FAC2937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D49-73F1-4A3A-A9E9-0841B955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84C-84FD-4E1B-8AF1-A87A984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24F3-29D8-4FCF-ADC2-5C3F55CAB9C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彼此相愛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Love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1:00:29Z</dcterms:created>
  <dc:creator> </dc:creator>
  <dc:description/>
  <dc:language>en-US</dc:language>
  <cp:lastModifiedBy> </cp:lastModifiedBy>
  <dcterms:modified xsi:type="dcterms:W3CDTF">2004-06-17T01:00:34Z</dcterms:modified>
  <cp:revision>1</cp:revision>
  <dc:subject/>
  <dc:title>彼此相愛 &lt;1/4&gt; Love One Another</dc:title>
</cp:coreProperties>
</file>