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20E-3F9B-4160-B668-12FBA359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4BA-E960-4117-8466-E34D0DEE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7EA-E3DC-4EB5-B0B2-9EED4D69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579-5D51-458D-9ED1-5C640D03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5D7-80B8-490B-9AC4-85179181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666-9218-40B0-95C3-2D0CA6D2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604-FF24-483C-AEA4-500A3010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C52-8B60-4550-80CF-69D8CFB1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70D-8730-4E30-BEB3-FDDFD001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3EF-B101-429D-9271-04894198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672-AE29-4AF0-9281-1234CE5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E70-9624-40AD-8D14-E690F942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B1EF-468E-412B-9F6E-1FF980A815D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讓愛走動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ve Over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讓愛走動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ve Overfl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47:35Z</dcterms:created>
  <dc:creator> </dc:creator>
  <dc:description/>
  <dc:language>en-US</dc:language>
  <cp:lastModifiedBy> </cp:lastModifiedBy>
  <dcterms:modified xsi:type="dcterms:W3CDTF">2004-06-16T21:47:46Z</dcterms:modified>
  <cp:revision>1</cp:revision>
  <dc:subject/>
  <dc:title>讓愛走動 &lt;1/2&gt; Love Overflows</dc:title>
</cp:coreProperties>
</file>