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B66-9EE8-4CF0-9347-8EAEA6B6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E1D-BCFE-4208-9046-ECA0971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216-C87E-438C-AC52-4B6D4CE1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795-ABEE-406C-8FF1-3883D4A1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3C2-99DF-4FD0-A0D2-0C9ACBD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9EB-AFF6-44B6-A31F-EF1B639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F60-9EB3-4706-BAAC-2544381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A57-7133-49CB-AFA5-B6CDBAB9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7BA-7C53-447C-9724-46E965AA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0BF-6920-46E0-A251-B1568D7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4D7-9E70-40F2-A01F-EDC4B6D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032-B650-4A62-A468-A7A1D4B5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72A0-9B7A-4904-A74E-625A59B3911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復興聖潔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vive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09Z</dcterms:created>
  <dc:creator> </dc:creator>
  <dc:description/>
  <dc:language>en-US</dc:language>
  <cp:lastModifiedBy> </cp:lastModifiedBy>
  <dcterms:modified xsi:type="dcterms:W3CDTF">2004-06-16T23:26:40Z</dcterms:modified>
  <cp:revision>1</cp:revision>
  <dc:subject/>
  <dc:title>復興聖潔 &lt;1/4&gt; Revive Holiness</dc:title>
</cp:coreProperties>
</file>