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0A1-4F45-473C-874A-BAE8DF4D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A7F-FF07-4CFD-A9E1-189235F8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E41-8383-490A-933E-E5E5067B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B6C-9752-462B-92A9-D40A2FE4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169-CA2E-419F-96E5-1171647E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12A-60D4-4D3A-81C6-A8D6E142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CC4-0907-4668-959E-1215FEF4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0C7-A43F-4270-82C1-61726641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B43-59A6-4107-B7FD-ADCF83C3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024-F682-4717-AEAA-FB162841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D37-85EA-43CA-8DCF-9827D123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2D3-B4A9-473C-9358-A10C5D42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B867-9CD6-492C-A94A-9DD4903DD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1:52:15Z</dcterms:created>
  <dc:creator>SOP</dc:creator>
  <dc:description/>
  <dc:language>en-US</dc:language>
  <cp:lastModifiedBy>SOP</cp:lastModifiedBy>
  <dcterms:modified xsi:type="dcterms:W3CDTF">2004-02-10T01:52:30Z</dcterms:modified>
  <cp:revision>1</cp:revision>
  <dc:subject/>
  <dc:title>Slide 1</dc:title>
</cp:coreProperties>
</file>