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8F7-88E0-48DD-914C-A7F18776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80A-AC35-44E7-8F1C-33F5A10C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E33-B099-4955-A2DB-4D359E63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1A1-2E86-4084-9EED-C8B13A37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341-9F9A-4239-A4BD-024EB6C5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7C3-7FA6-48BF-A265-2B804F59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90A-271A-4AD1-985D-D80CE000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4CE-087F-42E5-898E-C5DA0A4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7EE-8CED-4C69-BBEC-7680A338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9B8-8CC1-4434-B23A-95D6001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FBB-145F-40FF-A7C3-5AB4B8C8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AAF-EF02-4097-9017-877243E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246-C891-4858-855C-E574BC2CEDE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犧牲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Sacrificial Lov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4:24Z</dcterms:created>
  <dc:creator> </dc:creator>
  <dc:description/>
  <dc:language>en-US</dc:language>
  <cp:lastModifiedBy> </cp:lastModifiedBy>
  <dcterms:modified xsi:type="dcterms:W3CDTF">2004-06-16T01:04:32Z</dcterms:modified>
  <cp:revision>1</cp:revision>
  <dc:subject/>
  <dc:title>犧牲的愛 (1/3)  [The Sacrificial Love]</dc:title>
</cp:coreProperties>
</file>