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435-4FB2-496F-B2C5-43F8EF72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54F-CF8B-4358-8BD4-0B43F874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BDE-4D90-4D8C-AC1A-23686F7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893E-D0B1-4979-A3AC-DC311C37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1367-E236-4A83-929C-4DC699FB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241B-40CE-4A87-A788-8A977508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FF11-5A6E-45ED-B459-D8C7CE11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F84-6ED5-4621-8221-9111EDEC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60E-9D61-4F0A-9316-DF8D040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01F3-79FA-48BF-8DA1-59A4DC00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4CBD-BC83-42DB-99B3-DE97C980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CA41-B681-4086-9EDE-130CECE4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F95E-F25A-423D-8326-BC7BDE1B64F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23:39:30Z</dcterms:created>
  <dc:creator> </dc:creator>
  <dc:description/>
  <dc:language>en-US</dc:language>
  <cp:lastModifiedBy> </cp:lastModifiedBy>
  <dcterms:modified xsi:type="dcterms:W3CDTF">2004-06-15T23:39:39Z</dcterms:modified>
  <cp:revision>1</cp:revision>
  <dc:subject/>
  <dc:title>Slide 1</dc:title>
</cp:coreProperties>
</file>