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2E9-4C3E-434C-B82B-D7B0A71A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359-6FA3-4F98-9E07-42BBB0C2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5C9-5FFB-4063-80AD-F02AB774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F8C-A5A4-4967-81AE-04116E3C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BA0-0C69-44E2-8F27-F6FB82D3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F04-D0EE-432E-8CD0-F11C717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DC8-8E29-489C-9BC3-4AC73D43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FD0-895C-4013-BBE4-239851C0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D58-FE23-4422-8BC7-8FF84567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475-E73A-42D6-8272-BB37DDE4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883-906B-4FFC-97C6-3320A903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F36-4CEB-43E5-A368-DFD1572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57AF-4BA2-473D-92F0-B88F936077F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07:06Z</dcterms:created>
  <dc:creator> </dc:creator>
  <dc:description/>
  <dc:language>en-US</dc:language>
  <cp:lastModifiedBy> </cp:lastModifiedBy>
  <dcterms:modified xsi:type="dcterms:W3CDTF">2004-06-16T21:07:20Z</dcterms:modified>
  <cp:revision>1</cp:revision>
  <dc:subject/>
  <dc:title>馨香晚祭 (1/3) [The Evening Sacrifice]</dc:title>
</cp:coreProperties>
</file>