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3D6-FEE6-44D8-BDF2-98D1FC1B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BAA4-19ED-40A6-ABC3-0529AE6A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ED8-22FE-4123-A2DB-91B8C836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DDC-01F0-41E3-AEC8-A6832FAE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44FA-68CE-446F-A6AC-FA3CE484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22A-89A6-435B-A5A3-BB4FA290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368E-3BCA-4056-A1CF-4635280A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F5D-1A37-426D-85E8-93CC1911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B11-92B2-4505-B1B8-84FDD7E1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1B8-04CD-4F88-840D-36220365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8E5-BD73-41ED-8ECB-1B14F701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E883-1778-4692-BBEA-28B73B04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7E4C-FDD0-483D-8DE9-491067C6597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與你有約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Promis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與你有約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Promis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與你有約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Promis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0:50:03Z</dcterms:created>
  <dc:creator> </dc:creator>
  <dc:description/>
  <dc:language>en-US</dc:language>
  <cp:lastModifiedBy> </cp:lastModifiedBy>
  <dcterms:modified xsi:type="dcterms:W3CDTF">2004-06-16T20:50:27Z</dcterms:modified>
  <cp:revision>1</cp:revision>
  <dc:subject/>
  <dc:title>與你有約 (1/3) [The Promise]</dc:title>
</cp:coreProperties>
</file>