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E910-B90F-4B06-A727-11D538738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A2E9-5FB6-46F0-8708-D5FB3FFD9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7F8C-3AE5-49BC-BB60-832C07DC9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95DA-87E8-46F8-9824-36D01D7A8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D413-174F-4BD7-8549-717F92416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8336-F0E1-4E46-BB00-D85FF1D1B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A81B-EF0B-4E7B-9D2A-214CCBC1B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8786-6A0D-42FC-885F-E29836872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33EC-D820-4E35-9BB6-E38463DB0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3597-6B2D-42AA-A244-B052AA9A6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D16C-9435-4536-B7EF-123F38981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C13B-5D28-4D47-9263-CA945C58F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8E332-69A8-456A-AE6D-525EE23C378C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仰望恩典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&lt;1/4&gt;</a:t>
            </a:r>
            <a:br>
              <a:rPr sz="4400"/>
            </a:b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Upon Your Gr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74200" y="6248520"/>
            <a:ext cx="89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全真粗黑體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全真粗黑體"/>
                <a:ea typeface="全真粗黑體"/>
              </a:rPr>
              <a:t>讓愛走動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全真粗黑體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仰望恩典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&lt;2/4&gt;</a:t>
            </a:r>
            <a:br>
              <a:rPr sz="4400"/>
            </a:b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Upon Your Gr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74200" y="6248520"/>
            <a:ext cx="89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全真粗黑體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全真粗黑體"/>
                <a:ea typeface="全真粗黑體"/>
              </a:rPr>
              <a:t>讓愛走動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全真粗黑體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仰望恩典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&lt;3/4&gt;</a:t>
            </a:r>
            <a:br>
              <a:rPr sz="4400"/>
            </a:b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Upon Your Gr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74200" y="6248520"/>
            <a:ext cx="89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全真粗黑體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全真粗黑體"/>
                <a:ea typeface="全真粗黑體"/>
              </a:rPr>
              <a:t>讓愛走動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全真粗黑體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仰望恩典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&lt;4/4&gt;</a:t>
            </a:r>
            <a:br>
              <a:rPr sz="4400"/>
            </a:b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Upon Your Gr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74200" y="6248520"/>
            <a:ext cx="89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全真粗黑體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全真粗黑體"/>
                <a:ea typeface="全真粗黑體"/>
              </a:rPr>
              <a:t>讓愛走動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全真粗黑體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21:52:19Z</dcterms:created>
  <dc:creator> </dc:creator>
  <dc:description/>
  <dc:language>en-US</dc:language>
  <cp:lastModifiedBy> </cp:lastModifiedBy>
  <dcterms:modified xsi:type="dcterms:W3CDTF">2004-06-16T21:52:33Z</dcterms:modified>
  <cp:revision>1</cp:revision>
  <dc:subject/>
  <dc:title>仰望恩典 &lt;1/4&gt; Upon Your Grace</dc:title>
</cp:coreProperties>
</file>