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1B8-BDC2-43E3-9D98-6774AEF2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A91-6DA6-4842-A733-34DA4A12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BB9-F673-4371-9419-6656E421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C81-BDD4-42D5-A734-20494461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EBE-7F69-4E08-8C8F-6EE426AC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A01-8232-4BE1-A449-C7B0E064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8C9-3D7C-43E2-BFDA-3F4C3E6B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A50-1857-4BB2-AE38-A1A0C4C0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C7C-1BA2-4065-862E-84FA1898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78D-C215-4098-9ED2-2519054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338-EA19-42EB-9E60-BA37E638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3DD-E88A-41BA-8DF6-CC57BCE1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28B5-91C7-4D0B-B172-9C9D0B6E9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23:55:51Z</dcterms:created>
  <dc:creator>SOP</dc:creator>
  <dc:description/>
  <dc:language>en-US</dc:language>
  <cp:lastModifiedBy>SOP</cp:lastModifiedBy>
  <dcterms:modified xsi:type="dcterms:W3CDTF">2004-03-31T23:56:02Z</dcterms:modified>
  <cp:revision>1</cp:revision>
  <dc:subject/>
  <dc:title>Slide 1</dc:title>
</cp:coreProperties>
</file>