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0F2-4CC1-4B14-AAC2-3D79AC86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481-8A89-4487-9107-C506556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5ED-0E4A-40B7-893D-171253AB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540-DA48-4306-934E-7D4BBFFA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E91-7317-498F-8FF4-8689FE2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2A9-E817-4A89-B166-F246A73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ADA-EA06-4672-8518-53FD9470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1FD-FDC1-4912-A213-030F3C9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CB5-0369-47A0-9FF8-A171D785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891-A6E8-43B5-9DBA-7EBD431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4D2-289C-45DB-9D78-BD63D37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69D-7CAD-428D-87C9-EB177FF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391-D06F-465F-B14F-B54C6976DAF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27Z</dcterms:created>
  <dc:creator> </dc:creator>
  <dc:description/>
  <dc:language>en-US</dc:language>
  <cp:lastModifiedBy> </cp:lastModifiedBy>
  <dcterms:modified xsi:type="dcterms:W3CDTF">2004-06-16T01:32:35Z</dcterms:modified>
  <cp:revision>1</cp:revision>
  <dc:subject/>
  <dc:title>豐盛的人生 (1/2)  [Abundant Life]</dc:title>
</cp:coreProperties>
</file>