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4F5ED-600A-4A2D-82DF-57005B915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00670-3135-4FA5-A9D1-64FAE686A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16033-13F8-481B-B874-B63DBDA36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D1251-8E3E-4D9F-A8CB-C5AB688EB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B48E7-F941-4FAA-97FD-B20CDBEDC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7AA48-CB8C-4B0C-A1D0-D51528FE5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F16DB-C2BD-47A0-B485-ADCB35749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3B50A-E338-45E4-A26D-53364F39F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536B9-7D70-4A7E-A5A9-18E4A5D88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4DF4A-BC4A-4493-9398-EEF05B72D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C9CC0-0D5F-4B3D-9113-9587F1732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A83C0-41F9-484B-9DE4-92A033959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9D54C-DABD-4919-B4B1-E6078484005B}" type="slidenum">
              <a:rPr b="0" lang="zh-TW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親愛的聖靈</a:t>
            </a: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〈</a:t>
            </a: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1/2 </a:t>
            </a: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〉</a:t>
            </a:r>
            <a:br>
              <a:rPr sz="4000"/>
            </a:b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Come Holy Spiri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親愛的聖靈〈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2/2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〉</a:t>
            </a:r>
            <a:br>
              <a:rPr sz="4400"/>
            </a:b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Come Holy Spir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8T23:19:58Z</dcterms:created>
  <dc:creator> </dc:creator>
  <dc:description/>
  <dc:language>en-US</dc:language>
  <cp:lastModifiedBy> </cp:lastModifiedBy>
  <dcterms:modified xsi:type="dcterms:W3CDTF">2004-06-08T23:20:07Z</dcterms:modified>
  <cp:revision>1</cp:revision>
  <dc:subject/>
  <dc:title>親愛的聖靈〈1/2 〉 Come Holy Spirit</dc:title>
</cp:coreProperties>
</file>