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3465-2504-4372-A711-7A4ACF92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0E4-8EAE-4474-9329-AE066741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9C6-D93F-4860-BA80-89037AAA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8B5-4841-4776-B175-3721812E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34F-8CA8-4435-BEA9-EEF82EFF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CE1-9F6D-4EB3-908F-86809823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2B7-C9B2-4FD4-B52B-6863C031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B24-8584-4512-9895-5C23F34A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1E4-5584-4A08-80BC-BAF6E471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E5F-8579-4BEF-88AA-FE1C4B2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9E2-FDAC-4880-9A93-4B44531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86A-48C6-4BA2-92E3-9556F01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80CE-58FE-4BD1-8416-C5958C6354C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天父的孩子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Father’s Beloved Child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1:07:31Z</dcterms:created>
  <dc:creator> </dc:creator>
  <dc:description/>
  <dc:language>en-US</dc:language>
  <cp:lastModifiedBy> </cp:lastModifiedBy>
  <dcterms:modified xsi:type="dcterms:W3CDTF">2004-06-16T21:07:38Z</dcterms:modified>
  <cp:revision>1</cp:revision>
  <dc:subject/>
  <dc:title>天父的孩子 (1/2) [Father’s Beloved Child]</dc:title>
</cp:coreProperties>
</file>