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B296-29E6-48AD-B823-77F93368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B5F-15AE-4FF4-BD8A-285C413E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E68-3CDE-4430-9647-D421044E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CA3-B436-421E-BE1B-0193FEE9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14A-1FAF-479B-A59E-59B9E707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FC23-DEC9-4A4B-B871-2C0C9D39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1AB-D4EF-4975-B822-D555DEBB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AD4-515B-4E41-95DD-7F60781D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836-744B-4589-B79D-A1F37770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76C-E31C-4461-A7D5-92250816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4A1-B49A-44EF-A264-6F40CF5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B9E-9568-4162-B127-043C396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2E18-B218-4AE7-8DE9-9F364906FB1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8:49Z</dcterms:created>
  <dc:creator> </dc:creator>
  <dc:description/>
  <dc:language>en-US</dc:language>
  <cp:lastModifiedBy> </cp:lastModifiedBy>
  <dcterms:modified xsi:type="dcterms:W3CDTF">2004-06-15T23:39:03Z</dcterms:modified>
  <cp:revision>1</cp:revision>
  <dc:subject/>
  <dc:title>Slide 1</dc:title>
</cp:coreProperties>
</file>