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AAC-8E3F-49ED-978C-E60A171D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768-8FCA-4C91-BC24-231D33B3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116-8380-4547-A672-9D21B796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633-9225-4297-A311-52773A34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1E2-5105-47BE-A6BD-03D8FB7E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923-9F77-417D-A250-2E6C2AC7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BC5-CA43-43DF-96E2-BC1CA923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504-2F09-4313-8111-60030A51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C8C-4B58-46EB-A49B-E1DBB051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B03-6072-4797-A020-D96CE1E5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AC6-0D84-443A-8E7C-365251CA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5F7-96DC-42C8-8C23-5AE779C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A409-20DB-4843-8AAF-9BA370110BA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，我的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, My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，我的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, My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7:28Z</dcterms:created>
  <dc:creator> </dc:creator>
  <dc:description/>
  <dc:language>en-US</dc:language>
  <cp:lastModifiedBy> </cp:lastModifiedBy>
  <dcterms:modified xsi:type="dcterms:W3CDTF">2004-06-16T23:27:43Z</dcterms:modified>
  <cp:revision>1</cp:revision>
  <dc:subject/>
  <dc:title>耶穌，我的耶穌 &lt;1/2&gt; Jesus, My Jesus</dc:title>
</cp:coreProperties>
</file>