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F4B-8884-4D67-8CC8-A591F768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4C3-1DE4-42F6-815D-6961F6AF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03B-A6EA-4E4E-91D1-5F739D21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980-7B37-4A7F-9258-4BE2D165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CFA-7820-46C9-8B55-66552ED6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63E-AFA0-4FC8-B274-CAB3CE40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F02-D448-40BB-AD08-D9AD45C8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308-67FD-4F39-95AA-FCA4626F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9ED-D58C-48EC-A65A-823FEC10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899-6375-4F3C-83D3-1D9381D9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68A-9607-4E3F-BA62-618C6997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B4D-4A2B-48F7-813C-0D0B01BF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0AD9-D49B-4340-92E3-7BC6E544C0B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8:02Z</dcterms:created>
  <dc:creator> </dc:creator>
  <dc:description/>
  <dc:language>en-US</dc:language>
  <cp:lastModifiedBy> </cp:lastModifiedBy>
  <dcterms:modified xsi:type="dcterms:W3CDTF">2004-06-15T23:38:20Z</dcterms:modified>
  <cp:revision>1</cp:revision>
  <dc:subject/>
  <dc:title>Slide 1</dc:title>
</cp:coreProperties>
</file>