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87F-F60F-42EC-B1C2-0559A463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A16-4058-4E9A-B6A3-E4D6836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30C-5989-4B3C-B311-8543AB5F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5F5-5888-49EC-98A1-C255DEA6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D5B-E5AE-4FA8-A19E-8A1BBADC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618-A09A-4D6F-9D81-1CAD4D9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D5F-284E-49E2-BFE3-57048ACF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D12-7900-4432-BCAE-F012F7A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140-A120-4774-AB7A-5550A955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45D-DDE2-4B76-9C86-D6872A6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104-5147-471A-B67D-E023CB0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99C-93CD-434D-AEC4-811C8A3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21B9-899E-4595-BAD7-868880F7926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永活全能真神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lmighty Living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1:24Z</dcterms:created>
  <dc:creator> </dc:creator>
  <dc:description/>
  <dc:language>en-US</dc:language>
  <cp:lastModifiedBy> </cp:lastModifiedBy>
  <dcterms:modified xsi:type="dcterms:W3CDTF">2004-06-17T00:21:47Z</dcterms:modified>
  <cp:revision>1</cp:revision>
  <dc:subject/>
  <dc:title>永活全能真神 &lt;1/3&gt; Almighty Living God</dc:title>
</cp:coreProperties>
</file>