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122-AD3A-40C0-BA3D-1B77F001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FAB-1FE7-426F-966E-E29B971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1F7-0302-49BD-A211-415A67E7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FB2-5D01-474C-9153-B64B3C1F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204-A81A-4328-9769-585742D9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C0C-85B0-426D-9533-B2B202D7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FC9-A463-46C4-9CA0-D21F7439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A38-8945-494F-B7C6-7A649F6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C39-A5B6-4F91-A7CA-B83919EA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40C-658B-45BB-B870-05C138E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87A-4C24-433F-85AC-48ECFF0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A23-04BF-4F2D-8EE1-72BADA9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7E01-3F27-42C7-BEDD-78905296026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專心仰望耶穌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Focus on J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5:11Z</dcterms:created>
  <dc:creator> </dc:creator>
  <dc:description/>
  <dc:language>en-US</dc:language>
  <cp:lastModifiedBy> </cp:lastModifiedBy>
  <dcterms:modified xsi:type="dcterms:W3CDTF">2004-06-17T00:25:26Z</dcterms:modified>
  <cp:revision>1</cp:revision>
  <dc:subject/>
  <dc:title>專心仰望耶穌 &lt;1/4&gt; Focus on Jesus</dc:title>
</cp:coreProperties>
</file>