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DE89-764A-4984-8112-E3A200215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3FA6-CBAD-4EE6-BE50-DBE4BF66C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D44D-FC10-4516-A01D-4A8121C74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1B54-B011-4557-8B32-7B6630540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2C9A-6969-4B30-97BE-93E229E25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2AE5-AAB7-4104-ADDF-B3DA1AE9A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8902-7699-40EF-8369-D5316B4B8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5B95-194F-4E4C-B3BC-A39670229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573C-8349-4E86-A267-D93F7E898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CBB4-3BCC-4FB4-8028-F4382B9F7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74A7-E39B-4D2F-8382-7FC96BBE4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5E81-9F9D-4D25-9685-D6E6D8341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0A81A-D843-4192-BD25-351C5D88F911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萬國禱告的殿 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&lt;1/4&gt;</a:t>
            </a:r>
            <a:br>
              <a:rPr sz="4000"/>
            </a:b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House of Pray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71480" y="6292800"/>
            <a:ext cx="124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全真粗黑體"/>
              </a:rPr>
              <a:t>展開清晨的翅膀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萬國禱告的殿 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&lt;2/4&gt;</a:t>
            </a:r>
            <a:br>
              <a:rPr sz="4000"/>
            </a:b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House of Pray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71480" y="6292800"/>
            <a:ext cx="124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全真粗黑體"/>
              </a:rPr>
              <a:t>展開清晨的翅膀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萬國禱告的殿 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&lt;3/4&gt;</a:t>
            </a:r>
            <a:br>
              <a:rPr sz="4000"/>
            </a:b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House of Pray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71480" y="6292800"/>
            <a:ext cx="124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全真粗黑體"/>
              </a:rPr>
              <a:t>展開清晨的翅膀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萬國禱告的殿 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&lt;4/4&gt;</a:t>
            </a:r>
            <a:br>
              <a:rPr sz="4000"/>
            </a:b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House of Pray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71480" y="6292800"/>
            <a:ext cx="124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全真粗黑體"/>
              </a:rPr>
              <a:t>展開清晨的翅膀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23:27:50Z</dcterms:created>
  <dc:creator> </dc:creator>
  <dc:description/>
  <dc:language>en-US</dc:language>
  <cp:lastModifiedBy> </cp:lastModifiedBy>
  <dcterms:modified xsi:type="dcterms:W3CDTF">2004-06-16T23:28:00Z</dcterms:modified>
  <cp:revision>1</cp:revision>
  <dc:subject/>
  <dc:title>萬國禱告的殿 &lt;1/4&gt; House of Prayer</dc:title>
</cp:coreProperties>
</file>