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EFD-52CB-4640-B059-86F05986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68B-ADDD-4CED-A151-6ECB65DD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D01-8805-40C6-B0B3-00F1A409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051-5437-4794-8781-83EA1094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B06-5707-480F-BCD5-CA10A58D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4DB-9D9A-43A9-8405-A3CCDCE0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4C0-0D19-480B-9280-AFE64B79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BDA-82DB-4E9F-BC32-82FC10FC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DF3-69F6-4EE5-AD03-467924BB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E1D-E6C3-453E-8AC3-96E62C4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38F-D012-4513-892D-F4DB798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CBA-8B33-44CB-8EFB-41DBC9D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3457-C5FF-4B2B-AA85-190A73BA4D3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進入你的同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Your Pres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1:01:58Z</dcterms:created>
  <dc:creator> </dc:creator>
  <dc:description/>
  <dc:language>en-US</dc:language>
  <cp:lastModifiedBy> </cp:lastModifiedBy>
  <dcterms:modified xsi:type="dcterms:W3CDTF">2004-06-17T01:02:04Z</dcterms:modified>
  <cp:revision>1</cp:revision>
  <dc:subject/>
  <dc:title>進入你的同在 &lt;1/4&gt; Into Your Presence</dc:title>
</cp:coreProperties>
</file>