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C26-370D-475E-9D77-B5E520CE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8CC-01D9-452C-A1BF-05F2578E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3CA-8A18-41A5-BC70-AAF8792A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DD7-D337-411B-85E2-D11C4218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97A-7821-4803-91F4-C9FC97D7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C7D-D9CE-4B46-BE93-D9E2CF61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E7E-15B6-4434-9613-E7DE842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A18-F5C6-4206-AE70-27BB205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BDE-A05F-463F-B673-EB01CC89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459-066C-41AC-A330-942EC3C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435-53EC-4856-969A-4EB01C56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DD9-CCA7-4A7E-97DB-AEA6FB5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E853-1E19-409A-BDA7-38C089A16B5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主賜福如春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Rain of Blessing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主賜福如春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Rain of Blessing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主賜福如春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Rain of Blessing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5:36Z</dcterms:created>
  <dc:creator> </dc:creator>
  <dc:description/>
  <dc:language>en-US</dc:language>
  <cp:lastModifiedBy> </cp:lastModifiedBy>
  <dcterms:modified xsi:type="dcterms:W3CDTF">2004-06-16T01:05:43Z</dcterms:modified>
  <cp:revision>1</cp:revision>
  <dc:subject/>
  <dc:title>主賜福如春雨 (1/3) [Rain of Blessings]</dc:title>
</cp:coreProperties>
</file>