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04A-F26D-4774-8758-89EDA3BA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067-1816-4671-A75F-BA522267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FD3-0CA0-4433-91E0-1BDCC60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D9D2-C982-4F89-83AF-98E8BAAE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AD2-9BB6-46F8-96F0-33232B44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658-EC06-48C9-B91A-BEA874FE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428-1110-43A7-9BD2-4E6D20F8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B41D-53E5-44E8-89B7-20C74DE5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5C1-BE99-4121-92C4-452E3449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D8B-C816-40B7-8D9C-F31A89BE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B4A-A8D9-41FC-B90A-1F062254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0FD3-6723-4191-BAEE-7E573BA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1262-5EEE-48D0-8529-0AE0DD0A2F2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全能的創造主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5/5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Wonderful Cre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0:56Z</dcterms:created>
  <dc:creator> </dc:creator>
  <dc:description/>
  <dc:language>en-US</dc:language>
  <cp:lastModifiedBy> </cp:lastModifiedBy>
  <dcterms:modified xsi:type="dcterms:W3CDTF">2004-06-17T00:21:13Z</dcterms:modified>
  <cp:revision>1</cp:revision>
  <dc:subject/>
  <dc:title>全能的創造主 &lt;1/5&gt; Wonderful Creator</dc:title>
</cp:coreProperties>
</file>