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FA0B-04FE-4B53-80D9-6E110BFD2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B506-E638-4860-B7A7-306CD8AB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B341-5217-4CBE-BE91-DB651AC8F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CEC4-AC41-4488-9CBE-FA8CD6536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6AA8-7A44-46AD-AD9C-8DEC7EFB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A716-1A99-4ED0-830C-062097C4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DC23-6400-49CD-9CE1-FCEEA4B5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85F4-A0F8-4511-8159-3482F692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2B49-E64F-4EEE-8752-C01005B3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E5D2-15D5-44ED-9A33-3DA35905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61FE-CE3F-4EC0-955D-E3F87DAD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17A3-EE7E-4513-A2BA-572D60ED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8ECC-A796-43C0-B5F4-02E4036A063E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耶和華祝福滿滿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2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Jehovah’s Blessings Abound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292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耶和華祝福滿滿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耶和華祝福滿滿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2/2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Jehovah’s Blessings Abound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6292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耶和華祝福滿滿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1:06:23Z</dcterms:created>
  <dc:creator> </dc:creator>
  <dc:description/>
  <dc:language>en-US</dc:language>
  <cp:lastModifiedBy> </cp:lastModifiedBy>
  <dcterms:modified xsi:type="dcterms:W3CDTF">2004-06-16T01:06:34Z</dcterms:modified>
  <cp:revision>1</cp:revision>
  <dc:subject/>
  <dc:title>耶和華祝福滿滿 (1/2) [Jehovah’s Blessings Abound]</dc:title>
</cp:coreProperties>
</file>