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E1F-F002-4FB6-8651-FDD223F4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D11-2FB8-40C6-A5EC-329A757E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650-A8CF-45F7-B155-D9F3F659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10D-9FCC-459B-ABC2-0ED6406E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F1F-6D2D-4514-BBA6-4E83BC6D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BF3-ECB6-4F6F-84D9-7E8B0A44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13A-1A8F-4B8C-8BB3-20B752CA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620-AAC9-4127-A8BB-D3281A6F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246-32B0-4015-A14F-3139313D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83B-4B92-4398-97F5-D05C8290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A9D-E300-4B18-B606-E2F434B4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2BE-F656-43E7-B65A-80A7BD7B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BB74-E0BE-4CB4-9B44-93779B71ED9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贖者活著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1/4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My Redeemer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贖者活著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2/4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My Redeemer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贖者活著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3/4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My Redeemer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贖者活著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4/4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My Redeemer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21:40Z</dcterms:created>
  <dc:creator> </dc:creator>
  <dc:description/>
  <dc:language>en-US</dc:language>
  <cp:lastModifiedBy> </cp:lastModifiedBy>
  <dcterms:modified xsi:type="dcterms:W3CDTF">2004-06-08T23:22:00Z</dcterms:modified>
  <cp:revision>1</cp:revision>
  <dc:subject/>
  <dc:title>我的救贖者活著〈1/4 〉 My Redeemer Lives</dc:title>
</cp:coreProperties>
</file>