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4971-33F2-4C6F-80C8-8CE09EC3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A4A5-8DB6-47D7-9952-0A05D6AA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72E6-E1F9-4E2E-A94F-A3EA3403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719-D80A-46A3-B679-C92315EE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A749-0420-49BB-B18D-8B5D7E30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E63C-12EB-4D0A-B185-44CD8513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FF21-4DF2-46B1-B4EB-C869D222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F1B-47D5-4B3D-8B90-A6B0AC3B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EF4-7819-465A-9507-872F9FDD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BC19-609E-4AE6-8EFC-1E3F4851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0F16-7526-4DA8-A0B4-CAAE2BD9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4F49-00B9-42BE-9424-2C5AC59D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7C9C-732F-456D-89E6-5D6C54601C50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23:39:13Z</dcterms:created>
  <dc:creator> </dc:creator>
  <dc:description/>
  <dc:language>en-US</dc:language>
  <cp:lastModifiedBy> </cp:lastModifiedBy>
  <dcterms:modified xsi:type="dcterms:W3CDTF">2004-06-15T23:39:21Z</dcterms:modified>
  <cp:revision>1</cp:revision>
  <dc:subject/>
  <dc:title>Slide 1</dc:title>
</cp:coreProperties>
</file>